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0B81-8AFD-4CB9-82BE-9C77FF848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1768-A357-4256-ABCD-A802AECE6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B313-EBB2-4636-A8BA-58929363E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DC7B-52D1-4006-9752-A7233AE39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B0D38-E8F0-4AC6-AF00-CE3065788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7B437-1537-4044-8487-2FB2B3FE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AFF57-E923-4E8F-A717-C0BAFB1AD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2CE2E-D09E-4BFA-9DB2-19780BED6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CC6E7-209A-4313-BF7D-CAB451C8B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36888-F532-48CF-BEC4-7FF62D4A5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AC4A5-086D-4A03-91C9-64DE5A82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2114-FE7C-406C-A6C2-3C009333A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2EB7A-152C-45C2-85EA-CE8715F7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59448-735D-4489-8BFE-90610058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3CB30-EC87-4EBE-80F7-E1192EFF6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5FCC7-DBA9-4B6E-9AD8-CEAFFA85A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E0C95-95BC-4C77-BA5F-D320000F1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4022-E3F4-42E1-B1A5-59020DCD5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ABAC-77D3-4192-9CD5-27E637180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7289-33E1-4A70-A7C0-9308A57A3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F138-3406-4CA1-8C7E-F6D7BE1CF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A43A-590E-40F8-A791-F44B4325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9951-5092-41D1-8DF2-6E551076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E84E-DBF5-4DE7-A98A-57C3C05D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223FC-BCDB-4B93-8461-8ACC5D6360F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6E87B-3CD4-42F5-9F39-433EF4B7D2E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la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finition: Mark was glaring at his broth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ynonyms: look 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tonyms: igno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se Word: gla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flection: 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638680" y="1676520"/>
            <a:ext cx="1871640" cy="16556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816520" y="3429000"/>
            <a:ext cx="1639800" cy="2035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0047ff"/>
            </a:gs>
            <a:gs pos="100000">
              <a:srgbClr val="00008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orytel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finition: Someone who tells sto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ynonyms: Tells sto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tonyms: Speak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se Word: Story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flection: 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602320" y="1890720"/>
            <a:ext cx="1411200" cy="14605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364000" y="3454560"/>
            <a:ext cx="2025720" cy="15793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orro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finition: to borrow something from somebod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ynonyms: to steal someth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tonyms: u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meth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105520" y="3429000"/>
            <a:ext cx="181440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50000">
              <a:srgbClr val="4d0808"/>
            </a:gs>
            <a:gs pos="100000">
              <a:srgbClr val="fff2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ag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finition:  excited and nerv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ynonyms: happ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tonyms: S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se word: e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flecion: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518080" y="2575080"/>
            <a:ext cx="2000160" cy="1836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attered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finition: When you are col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nonym: freez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tonyms; STEEL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llable: CHATT.ER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SE WORD: CHAT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flection: er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486400" y="1600200"/>
            <a:ext cx="2066760" cy="17352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5753160" y="3733920"/>
            <a:ext cx="1484280" cy="17524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br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finition: A Spanish word boo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ynonym: Espano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tonyms: Englis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yllable: Li.br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se word: l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flection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osevelt2</cp:lastModifiedBy>
  <dcterms:modified xsi:type="dcterms:W3CDTF">2008-10-28T19:30:04Z</dcterms:modified>
  <cp:revision>8</cp:revision>
  <dc:subject/>
  <dc:title>PowerPoint Presentation</dc:title>
</cp:coreProperties>
</file>